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13.wmf" ContentType="image/x-wmf"/>
  <Override PartName="/ppt/media/image8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0.wmf" ContentType="image/x-wmf"/>
  <Override PartName="/ppt/media/image4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0280" y="1239480"/>
            <a:ext cx="4460760" cy="334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7880" y="4770360"/>
            <a:ext cx="542592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1920" y="94154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FADB-A6F1-43FB-B149-D0FE4CADCF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-12268080" y="-8424720"/>
            <a:ext cx="24539400" cy="18405360"/>
          </a:xfrm>
          <a:prstGeom prst="rect">
            <a:avLst/>
          </a:prstGeom>
          <a:ln w="0">
            <a:noFill/>
          </a:ln>
        </p:spPr>
      </p:sp>
      <p:sp>
        <p:nvSpPr>
          <p:cNvPr id="291" name="Text Box 2"/>
          <p:cNvSpPr/>
          <p:nvPr/>
        </p:nvSpPr>
        <p:spPr>
          <a:xfrm>
            <a:off x="709560" y="4861080"/>
            <a:ext cx="567684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3"/>
          <p:cNvSpPr/>
          <p:nvPr/>
        </p:nvSpPr>
        <p:spPr>
          <a:xfrm>
            <a:off x="4114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6094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5"/>
          <p:cNvSpPr/>
          <p:nvPr/>
        </p:nvSpPr>
        <p:spPr>
          <a:xfrm>
            <a:off x="6629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  </a:t>
            </a:r>
            <a:fld id="{F2D44FB7-DA89-4286-AE33-E1F62B93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6"/>
          <p:cNvSpPr/>
          <p:nvPr/>
        </p:nvSpPr>
        <p:spPr>
          <a:xfrm>
            <a:off x="685800" y="63244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7"/>
          <p:cNvSpPr/>
          <p:nvPr/>
        </p:nvSpPr>
        <p:spPr>
          <a:xfrm>
            <a:off x="609480" y="53352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539280" y="15228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nics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Fundament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522520" y="5818320"/>
            <a:ext cx="43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l amplifier – basic structu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583360" y="609480"/>
            <a:ext cx="3929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JT differential amplifi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614520" y="1138320"/>
            <a:ext cx="7761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349880" y="3216240"/>
            <a:ext cx="2919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121280" y="3521160"/>
            <a:ext cx="2919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4343400" y="3236760"/>
            <a:ext cx="29196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114800" y="3541680"/>
            <a:ext cx="29196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826160" y="3270240"/>
            <a:ext cx="38001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4775040" y="2308320"/>
                <a:ext cx="390384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if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u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8" name="Obraz 1" descr=""/>
          <p:cNvPicPr/>
          <p:nvPr/>
        </p:nvPicPr>
        <p:blipFill>
          <a:blip r:embed="rId1"/>
          <a:srcRect l="0" t="0" r="40198" b="0"/>
          <a:stretch/>
        </p:blipFill>
        <p:spPr>
          <a:xfrm>
            <a:off x="608040" y="1874880"/>
            <a:ext cx="40878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1047600" y="878040"/>
          <a:ext cx="7034400" cy="41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878040"/>
                    <a:ext cx="703440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3"/>
          <p:cNvSpPr/>
          <p:nvPr/>
        </p:nvSpPr>
        <p:spPr>
          <a:xfrm>
            <a:off x="2133720" y="548964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-loop op amp test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9" descr=""/>
          <p:cNvPicPr/>
          <p:nvPr/>
        </p:nvPicPr>
        <p:blipFill>
          <a:blip r:embed="rId1"/>
          <a:srcRect l="0" t="4064" r="0" b="0"/>
          <a:stretch/>
        </p:blipFill>
        <p:spPr>
          <a:xfrm>
            <a:off x="1852560" y="1365120"/>
            <a:ext cx="6085080" cy="39182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826560" y="668160"/>
            <a:ext cx="7430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ransfer characteristics of operational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not to sc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655560" y="52498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der normal operating condition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 feedback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the inputs of the ideal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p-amp draw no current and the output attempts to make the voltage difference between the inputs equal to z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179360" y="766800"/>
            <a:ext cx="6072480" cy="4748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833920" y="55627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in-bandwidth product (GB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4080600" y="5562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ew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619200" y="866880"/>
            <a:ext cx="764676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Object 2"/>
          <p:cNvGraphicFramePr/>
          <p:nvPr/>
        </p:nvGraphicFramePr>
        <p:xfrm>
          <a:off x="457200" y="609480"/>
          <a:ext cx="5181480" cy="29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518148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152280" y="3886200"/>
                <a:ext cx="27543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4468680" y="3657600"/>
                <a:ext cx="123516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Line 5"/>
          <p:cNvSpPr/>
          <p:nvPr/>
        </p:nvSpPr>
        <p:spPr>
          <a:xfrm>
            <a:off x="609480" y="3581280"/>
            <a:ext cx="79250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6"/>
              <p:cNvSpPr txBox="1"/>
              <p:nvPr/>
            </p:nvSpPr>
            <p:spPr>
              <a:xfrm>
                <a:off x="152280" y="5105520"/>
                <a:ext cx="3608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7"/>
              <p:cNvSpPr txBox="1"/>
              <p:nvPr/>
            </p:nvSpPr>
            <p:spPr>
              <a:xfrm>
                <a:off x="3962520" y="4876920"/>
                <a:ext cx="21510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AutoShape 8"/>
          <p:cNvSpPr/>
          <p:nvPr/>
        </p:nvSpPr>
        <p:spPr>
          <a:xfrm>
            <a:off x="3352680" y="3693960"/>
            <a:ext cx="436680" cy="91764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6172200" y="3809880"/>
            <a:ext cx="0" cy="228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1"/>
              <p:cNvSpPr txBox="1"/>
              <p:nvPr/>
            </p:nvSpPr>
            <p:spPr>
              <a:xfrm>
                <a:off x="6400800" y="4419720"/>
                <a:ext cx="25621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Line 12"/>
          <p:cNvSpPr/>
          <p:nvPr/>
        </p:nvSpPr>
        <p:spPr>
          <a:xfrm>
            <a:off x="152280" y="4800600"/>
            <a:ext cx="5867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5500800" y="3084480"/>
            <a:ext cx="30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vert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fie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2514600" y="762120"/>
          <a:ext cx="3962520" cy="28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762120"/>
                    <a:ext cx="396252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"/>
          <p:cNvSpPr/>
          <p:nvPr/>
        </p:nvSpPr>
        <p:spPr>
          <a:xfrm>
            <a:off x="2133720" y="556272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fier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438280" y="3962520"/>
                <a:ext cx="385920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Object 2"/>
          <p:cNvGraphicFramePr/>
          <p:nvPr/>
        </p:nvGraphicFramePr>
        <p:xfrm>
          <a:off x="1359000" y="865080"/>
          <a:ext cx="6356160" cy="35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9000" y="865080"/>
                    <a:ext cx="6356160" cy="35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3"/>
          <p:cNvSpPr/>
          <p:nvPr/>
        </p:nvSpPr>
        <p:spPr>
          <a:xfrm>
            <a:off x="936000" y="5192640"/>
            <a:ext cx="719424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inverting input is held near ground due to feedback: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270160" y="457344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umm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fier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Object 2"/>
          <p:cNvGraphicFramePr/>
          <p:nvPr/>
        </p:nvGraphicFramePr>
        <p:xfrm>
          <a:off x="1878120" y="847800"/>
          <a:ext cx="5437080" cy="39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8120" y="847800"/>
                    <a:ext cx="5437080" cy="39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"/>
          <p:cNvSpPr/>
          <p:nvPr/>
        </p:nvSpPr>
        <p:spPr>
          <a:xfrm>
            <a:off x="1904400" y="5281560"/>
            <a:ext cx="559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 voltage follower and its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input stage to an invert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-amp circu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2"/>
          <p:cNvGraphicFramePr/>
          <p:nvPr/>
        </p:nvGraphicFramePr>
        <p:xfrm>
          <a:off x="488880" y="1066680"/>
          <a:ext cx="3733920" cy="224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1066680"/>
                    <a:ext cx="3733920" cy="22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3"/>
          <p:cNvGraphicFramePr/>
          <p:nvPr/>
        </p:nvGraphicFramePr>
        <p:xfrm>
          <a:off x="4711680" y="1066680"/>
          <a:ext cx="3733920" cy="221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1066680"/>
                    <a:ext cx="3733920" cy="22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4"/>
          <p:cNvSpPr/>
          <p:nvPr/>
        </p:nvSpPr>
        <p:spPr>
          <a:xfrm>
            <a:off x="1887120" y="5334120"/>
            <a:ext cx="557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ized op amp inverting-amplifier circui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rresponding realization of a differenti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1631880" y="3429000"/>
                <a:ext cx="12956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4286160" y="3454560"/>
                <a:ext cx="44960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Q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C</m:t>
                        </m:r>
                        <m:f>
                          <m:num>
                            <m:sSub>
                              <m:e>
                                <m:r>
                                  <m:t xml:space="preserve">d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590920" y="1676520"/>
          <a:ext cx="4495680" cy="22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44956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3"/>
          <p:cNvSpPr/>
          <p:nvPr/>
        </p:nvSpPr>
        <p:spPr>
          <a:xfrm>
            <a:off x="2890800" y="5791320"/>
            <a:ext cx="37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op amp differenti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701640" y="644400"/>
                <a:ext cx="219240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Text Box 5"/>
          <p:cNvSpPr/>
          <p:nvPr/>
        </p:nvSpPr>
        <p:spPr>
          <a:xfrm>
            <a:off x="3352680" y="76212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4816440" y="797040"/>
            <a:ext cx="30492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5584320" y="797040"/>
            <a:ext cx="41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035760" y="873000"/>
            <a:ext cx="30456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10"/>
              <p:cNvSpPr txBox="1"/>
              <p:nvPr/>
            </p:nvSpPr>
            <p:spPr>
              <a:xfrm>
                <a:off x="152280" y="4419720"/>
                <a:ext cx="52070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11"/>
              <p:cNvSpPr txBox="1"/>
              <p:nvPr/>
            </p:nvSpPr>
            <p:spPr>
              <a:xfrm>
                <a:off x="6194520" y="4419720"/>
                <a:ext cx="251604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therwi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Line 12"/>
          <p:cNvSpPr/>
          <p:nvPr/>
        </p:nvSpPr>
        <p:spPr>
          <a:xfrm>
            <a:off x="380880" y="4191120"/>
            <a:ext cx="83822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998640" y="1143000"/>
          <a:ext cx="262260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1143000"/>
                    <a:ext cx="262260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1063440" y="4784760"/>
            <a:ext cx="25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ink (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4826160" y="1143000"/>
          <a:ext cx="2751120" cy="31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6160" y="1143000"/>
                    <a:ext cx="27511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6"/>
          <p:cNvSpPr/>
          <p:nvPr/>
        </p:nvSpPr>
        <p:spPr>
          <a:xfrm>
            <a:off x="4382280" y="4784760"/>
            <a:ext cx="40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mirro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as a current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Object 2"/>
          <p:cNvGraphicFramePr/>
          <p:nvPr/>
        </p:nvGraphicFramePr>
        <p:xfrm>
          <a:off x="2090880" y="998640"/>
          <a:ext cx="5056200" cy="29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0880" y="998640"/>
                    <a:ext cx="5056200" cy="29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3"/>
          <p:cNvSpPr/>
          <p:nvPr/>
        </p:nvSpPr>
        <p:spPr>
          <a:xfrm>
            <a:off x="3185280" y="5678640"/>
            <a:ext cx="28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op amp 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3435480" y="4376880"/>
                <a:ext cx="23670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Object 2"/>
          <p:cNvGraphicFramePr/>
          <p:nvPr/>
        </p:nvGraphicFramePr>
        <p:xfrm>
          <a:off x="1905120" y="609480"/>
          <a:ext cx="3470040" cy="28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609480"/>
                    <a:ext cx="3470040" cy="28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Text Box 3"/>
          <p:cNvSpPr/>
          <p:nvPr/>
        </p:nvSpPr>
        <p:spPr>
          <a:xfrm>
            <a:off x="3119400" y="5867280"/>
            <a:ext cx="33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op amp integ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"/>
              <p:cNvSpPr txBox="1"/>
              <p:nvPr/>
            </p:nvSpPr>
            <p:spPr>
              <a:xfrm>
                <a:off x="609480" y="3657600"/>
                <a:ext cx="546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533520" y="4800600"/>
                <a:ext cx="246672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therwi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400800" y="1752480"/>
                <a:ext cx="1569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Line 7"/>
          <p:cNvSpPr/>
          <p:nvPr/>
        </p:nvSpPr>
        <p:spPr>
          <a:xfrm>
            <a:off x="380880" y="3581280"/>
            <a:ext cx="59436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80880" y="4648320"/>
            <a:ext cx="594360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1219320" y="609480"/>
          <a:ext cx="4005000" cy="24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400500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3045960" y="5791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 amp logarithmic 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5943600" y="1523880"/>
                <a:ext cx="199404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5"/>
              <p:cNvSpPr txBox="1"/>
              <p:nvPr/>
            </p:nvSpPr>
            <p:spPr>
              <a:xfrm>
                <a:off x="593640" y="3581280"/>
                <a:ext cx="2943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ut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kT</m:t>
                                </m:r>
                              </m:den>
                            </m:f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Text Box 6"/>
          <p:cNvSpPr/>
          <p:nvPr/>
        </p:nvSpPr>
        <p:spPr>
          <a:xfrm>
            <a:off x="3905280" y="3657600"/>
            <a:ext cx="4865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“minus”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sequence of virtual ground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685800" y="4419720"/>
                <a:ext cx="639288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k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kT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8" name="Line 8"/>
          <p:cNvSpPr/>
          <p:nvPr/>
        </p:nvSpPr>
        <p:spPr>
          <a:xfrm>
            <a:off x="5486400" y="838080"/>
            <a:ext cx="0" cy="2210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685800" y="3276720"/>
            <a:ext cx="4572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845440" y="5349960"/>
            <a:ext cx="35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 amp exponential amplifi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3"/>
          <p:cNvGraphicFramePr/>
          <p:nvPr/>
        </p:nvGraphicFramePr>
        <p:xfrm>
          <a:off x="1432080" y="982800"/>
          <a:ext cx="634968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982800"/>
                    <a:ext cx="634968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"/>
          <p:cNvGraphicFramePr/>
          <p:nvPr/>
        </p:nvGraphicFramePr>
        <p:xfrm>
          <a:off x="838080" y="3962520"/>
          <a:ext cx="762012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962520"/>
                    <a:ext cx="762012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5" name="Object 3"/>
              <p:cNvSpPr txBox="1"/>
              <p:nvPr/>
            </p:nvSpPr>
            <p:spPr>
              <a:xfrm>
                <a:off x="7238880" y="3505320"/>
                <a:ext cx="11462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4"/>
              <p:cNvSpPr txBox="1"/>
              <p:nvPr/>
            </p:nvSpPr>
            <p:spPr>
              <a:xfrm>
                <a:off x="4952880" y="1219320"/>
                <a:ext cx="22179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5"/>
              <p:cNvSpPr txBox="1"/>
              <p:nvPr/>
            </p:nvSpPr>
            <p:spPr>
              <a:xfrm>
                <a:off x="4952880" y="1905120"/>
                <a:ext cx="30657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6"/>
              <p:cNvSpPr txBox="1"/>
              <p:nvPr/>
            </p:nvSpPr>
            <p:spPr>
              <a:xfrm>
                <a:off x="914400" y="1219320"/>
                <a:ext cx="18684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7"/>
              <p:cNvSpPr txBox="1"/>
              <p:nvPr/>
            </p:nvSpPr>
            <p:spPr>
              <a:xfrm>
                <a:off x="914400" y="1981080"/>
                <a:ext cx="2867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AutoShape 8"/>
          <p:cNvSpPr/>
          <p:nvPr/>
        </p:nvSpPr>
        <p:spPr>
          <a:xfrm>
            <a:off x="4114800" y="13716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4114800" y="2057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762120" y="1828800"/>
            <a:ext cx="74674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Object 2"/>
          <p:cNvGraphicFramePr/>
          <p:nvPr/>
        </p:nvGraphicFramePr>
        <p:xfrm>
          <a:off x="152280" y="1066680"/>
          <a:ext cx="8763120" cy="27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76312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3"/>
          <p:cNvSpPr/>
          <p:nvPr/>
        </p:nvSpPr>
        <p:spPr>
          <a:xfrm>
            <a:off x="1134000" y="5619600"/>
            <a:ext cx="69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op amp half-wave rectifier and an improved versio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492120" y="3591000"/>
            <a:ext cx="325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no feedback during the half of the input-wave cycle when the diode is reverse-bi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6"/>
              <p:cNvSpPr txBox="1"/>
              <p:nvPr/>
            </p:nvSpPr>
            <p:spPr>
              <a:xfrm>
                <a:off x="6540480" y="3814920"/>
                <a:ext cx="1998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44680"/>
            <a:ext cx="822636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Slope of th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906840" y="5772240"/>
            <a:ext cx="73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-20dB/dec (-6dB/oct) for single structure (+ for high-p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2209680" y="1424160"/>
            <a:ext cx="4591080" cy="42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620720" y="655560"/>
            <a:ext cx="5946840" cy="502596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133720" y="579420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"/>
          <p:cNvPicPr/>
          <p:nvPr/>
        </p:nvPicPr>
        <p:blipFill>
          <a:blip r:embed="rId1"/>
          <a:srcRect l="0" t="439" r="0" b="66313"/>
          <a:stretch/>
        </p:blipFill>
        <p:spPr>
          <a:xfrm>
            <a:off x="2654280" y="679320"/>
            <a:ext cx="3832200" cy="2519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2"/>
          <a:srcRect l="0" t="33783" r="0" b="33153"/>
          <a:stretch/>
        </p:blipFill>
        <p:spPr>
          <a:xfrm>
            <a:off x="2638440" y="3205080"/>
            <a:ext cx="3852720" cy="25210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2133720" y="5794200"/>
            <a:ext cx="45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Object 2"/>
          <p:cNvGraphicFramePr/>
          <p:nvPr/>
        </p:nvGraphicFramePr>
        <p:xfrm>
          <a:off x="228600" y="1219320"/>
          <a:ext cx="525780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525780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Text Box 3"/>
          <p:cNvSpPr/>
          <p:nvPr/>
        </p:nvSpPr>
        <p:spPr>
          <a:xfrm>
            <a:off x="1140840" y="5486400"/>
            <a:ext cx="27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bandpass filte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6248520" y="1066680"/>
                <a:ext cx="211752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C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1" name="Text Box 5"/>
          <p:cNvSpPr/>
          <p:nvPr/>
        </p:nvSpPr>
        <p:spPr>
          <a:xfrm>
            <a:off x="5940720" y="68580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er frequenc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6"/>
          <p:cNvSpPr/>
          <p:nvPr/>
        </p:nvSpPr>
        <p:spPr>
          <a:xfrm>
            <a:off x="5715000" y="685800"/>
            <a:ext cx="0" cy="54864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15960" y="2209680"/>
            <a:ext cx="257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gain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frequenc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8"/>
              <p:cNvSpPr txBox="1"/>
              <p:nvPr/>
            </p:nvSpPr>
            <p:spPr>
              <a:xfrm>
                <a:off x="6400800" y="2895480"/>
                <a:ext cx="149400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Text Box 9"/>
          <p:cNvSpPr/>
          <p:nvPr/>
        </p:nvSpPr>
        <p:spPr>
          <a:xfrm>
            <a:off x="6018480" y="3962520"/>
            <a:ext cx="182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fact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0"/>
              <p:cNvSpPr txBox="1"/>
              <p:nvPr/>
            </p:nvSpPr>
            <p:spPr>
              <a:xfrm>
                <a:off x="6095880" y="4343400"/>
                <a:ext cx="12956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1"/>
              <p:cNvSpPr txBox="1"/>
              <p:nvPr/>
            </p:nvSpPr>
            <p:spPr>
              <a:xfrm>
                <a:off x="6095880" y="5181480"/>
                <a:ext cx="131292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88" name="Line 12"/>
          <p:cNvSpPr/>
          <p:nvPr/>
        </p:nvSpPr>
        <p:spPr>
          <a:xfrm>
            <a:off x="5943600" y="2057400"/>
            <a:ext cx="2514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5943600" y="3809880"/>
            <a:ext cx="25146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1767960" y="5562720"/>
            <a:ext cx="58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l amplifier with current mirror as the 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373560" y="3456000"/>
            <a:ext cx="2919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903920" y="3402000"/>
            <a:ext cx="290340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Object 7"/>
          <p:cNvGraphicFramePr/>
          <p:nvPr/>
        </p:nvGraphicFramePr>
        <p:xfrm>
          <a:off x="2516040" y="690480"/>
          <a:ext cx="42357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6040" y="690480"/>
                    <a:ext cx="42357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1676520" y="1676520"/>
          <a:ext cx="5943600" cy="38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676520"/>
                    <a:ext cx="5943600" cy="38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3"/>
          <p:cNvSpPr/>
          <p:nvPr/>
        </p:nvSpPr>
        <p:spPr>
          <a:xfrm>
            <a:off x="1213200" y="5791320"/>
            <a:ext cx="66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OS differential amplifier u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annel in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621800" y="609480"/>
            <a:ext cx="586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l amplifier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- M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a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5"/>
          <p:cNvSpPr/>
          <p:nvPr/>
        </p:nvSpPr>
        <p:spPr>
          <a:xfrm>
            <a:off x="762120" y="121932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207080" y="5191200"/>
            <a:ext cx="66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OS differential amplifier u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hannel in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2133720" y="762120"/>
          <a:ext cx="49528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762120"/>
                    <a:ext cx="49528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60120" y="685800"/>
            <a:ext cx="357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amplifie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"/>
          <p:cNvSpPr/>
          <p:nvPr/>
        </p:nvSpPr>
        <p:spPr>
          <a:xfrm>
            <a:off x="762120" y="144792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914400" y="1600200"/>
            <a:ext cx="7359480" cy="3591000"/>
            <a:chOff x="914400" y="1600200"/>
            <a:chExt cx="7359480" cy="3591000"/>
          </a:xfrm>
        </p:grpSpPr>
        <p:sp>
          <p:nvSpPr>
            <p:cNvPr id="81" name="Rectangle 5"/>
            <p:cNvSpPr/>
            <p:nvPr/>
          </p:nvSpPr>
          <p:spPr>
            <a:xfrm>
              <a:off x="914400" y="1600200"/>
              <a:ext cx="7359480" cy="35910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4016160" y="2085840"/>
              <a:ext cx="1080" cy="55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7"/>
            <p:cNvSpPr/>
            <p:nvPr/>
          </p:nvSpPr>
          <p:spPr>
            <a:xfrm>
              <a:off x="4016160" y="2085840"/>
              <a:ext cx="1393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8"/>
            <p:cNvSpPr/>
            <p:nvPr/>
          </p:nvSpPr>
          <p:spPr>
            <a:xfrm>
              <a:off x="4016160" y="2641680"/>
              <a:ext cx="139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9"/>
            <p:cNvSpPr/>
            <p:nvPr/>
          </p:nvSpPr>
          <p:spPr>
            <a:xfrm>
              <a:off x="5409720" y="2085840"/>
              <a:ext cx="1440" cy="55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0"/>
            <p:cNvSpPr/>
            <p:nvPr/>
          </p:nvSpPr>
          <p:spPr>
            <a:xfrm>
              <a:off x="4479120" y="23461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circu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1"/>
            <p:cNvSpPr/>
            <p:nvPr/>
          </p:nvSpPr>
          <p:spPr>
            <a:xfrm>
              <a:off x="4016160" y="3197160"/>
              <a:ext cx="139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>
              <a:off x="4016160" y="3754440"/>
              <a:ext cx="139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>
              <a:off x="4016160" y="3197160"/>
              <a:ext cx="108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4"/>
            <p:cNvSpPr/>
            <p:nvPr/>
          </p:nvSpPr>
          <p:spPr>
            <a:xfrm>
              <a:off x="5409720" y="3197160"/>
              <a:ext cx="144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>
              <a:off x="5827320" y="3197160"/>
              <a:ext cx="1184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>
              <a:off x="5827320" y="3197160"/>
              <a:ext cx="144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>
              <a:off x="5827320" y="3754440"/>
              <a:ext cx="1184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8"/>
            <p:cNvSpPr/>
            <p:nvPr/>
          </p:nvSpPr>
          <p:spPr>
            <a:xfrm flipV="1">
              <a:off x="7011720" y="3197160"/>
              <a:ext cx="108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9"/>
            <p:cNvSpPr/>
            <p:nvPr/>
          </p:nvSpPr>
          <p:spPr>
            <a:xfrm>
              <a:off x="1993680" y="3197160"/>
              <a:ext cx="160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20"/>
            <p:cNvSpPr/>
            <p:nvPr/>
          </p:nvSpPr>
          <p:spPr>
            <a:xfrm>
              <a:off x="1993680" y="3754440"/>
              <a:ext cx="160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>
              <a:off x="1993680" y="3197160"/>
              <a:ext cx="108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>
              <a:off x="3597120" y="3197160"/>
              <a:ext cx="108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2099880" y="3579840"/>
              <a:ext cx="144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030040" y="3649680"/>
              <a:ext cx="137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>
              <a:off x="2030040" y="3301920"/>
              <a:ext cx="137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26"/>
            <p:cNvSpPr/>
            <p:nvPr/>
          </p:nvSpPr>
          <p:spPr>
            <a:xfrm>
              <a:off x="2378520" y="3243240"/>
              <a:ext cx="94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Different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27"/>
            <p:cNvSpPr/>
            <p:nvPr/>
          </p:nvSpPr>
          <p:spPr>
            <a:xfrm>
              <a:off x="1266120" y="320832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pl-PL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28"/>
            <p:cNvSpPr/>
            <p:nvPr/>
          </p:nvSpPr>
          <p:spPr>
            <a:xfrm>
              <a:off x="1266120" y="3519360"/>
              <a:ext cx="192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pl-PL" sz="15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9"/>
            <p:cNvSpPr/>
            <p:nvPr/>
          </p:nvSpPr>
          <p:spPr>
            <a:xfrm>
              <a:off x="7611480" y="3382920"/>
              <a:ext cx="2901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30"/>
            <p:cNvSpPr/>
            <p:nvPr/>
          </p:nvSpPr>
          <p:spPr>
            <a:xfrm>
              <a:off x="4479120" y="455616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circu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1"/>
            <p:cNvSpPr/>
            <p:nvPr/>
          </p:nvSpPr>
          <p:spPr>
            <a:xfrm>
              <a:off x="4016160" y="4311720"/>
              <a:ext cx="1080" cy="55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2"/>
            <p:cNvSpPr/>
            <p:nvPr/>
          </p:nvSpPr>
          <p:spPr>
            <a:xfrm>
              <a:off x="4016160" y="4311720"/>
              <a:ext cx="139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33"/>
            <p:cNvSpPr/>
            <p:nvPr/>
          </p:nvSpPr>
          <p:spPr>
            <a:xfrm>
              <a:off x="4016160" y="4865760"/>
              <a:ext cx="1393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34"/>
            <p:cNvSpPr/>
            <p:nvPr/>
          </p:nvSpPr>
          <p:spPr>
            <a:xfrm>
              <a:off x="5409720" y="4311720"/>
              <a:ext cx="1440" cy="55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35"/>
            <p:cNvSpPr/>
            <p:nvPr/>
          </p:nvSpPr>
          <p:spPr>
            <a:xfrm flipH="1">
              <a:off x="2796840" y="4622760"/>
              <a:ext cx="1218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6"/>
            <p:cNvSpPr/>
            <p:nvPr/>
          </p:nvSpPr>
          <p:spPr>
            <a:xfrm flipV="1">
              <a:off x="2796840" y="3754440"/>
              <a:ext cx="1080" cy="868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37"/>
            <p:cNvSpPr/>
            <p:nvPr/>
          </p:nvSpPr>
          <p:spPr>
            <a:xfrm>
              <a:off x="5409720" y="4622760"/>
              <a:ext cx="1010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 flipV="1">
              <a:off x="6420960" y="3754440"/>
              <a:ext cx="1440" cy="868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39"/>
            <p:cNvSpPr/>
            <p:nvPr/>
          </p:nvSpPr>
          <p:spPr>
            <a:xfrm flipH="1">
              <a:off x="5409720" y="2363760"/>
              <a:ext cx="1010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40"/>
            <p:cNvSpPr/>
            <p:nvPr/>
          </p:nvSpPr>
          <p:spPr>
            <a:xfrm>
              <a:off x="6420960" y="2363760"/>
              <a:ext cx="1440" cy="83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1"/>
            <p:cNvSpPr/>
            <p:nvPr/>
          </p:nvSpPr>
          <p:spPr>
            <a:xfrm>
              <a:off x="2796840" y="2363760"/>
              <a:ext cx="12189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2"/>
            <p:cNvSpPr/>
            <p:nvPr/>
          </p:nvSpPr>
          <p:spPr>
            <a:xfrm>
              <a:off x="2796840" y="2363760"/>
              <a:ext cx="1080" cy="83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4433400" y="2641680"/>
              <a:ext cx="1440" cy="555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44"/>
            <p:cNvSpPr/>
            <p:nvPr/>
          </p:nvSpPr>
          <p:spPr>
            <a:xfrm>
              <a:off x="4992480" y="2641680"/>
              <a:ext cx="1080" cy="555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45"/>
            <p:cNvSpPr/>
            <p:nvPr/>
          </p:nvSpPr>
          <p:spPr>
            <a:xfrm>
              <a:off x="4713120" y="3754440"/>
              <a:ext cx="1080" cy="557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46"/>
            <p:cNvSpPr/>
            <p:nvPr/>
          </p:nvSpPr>
          <p:spPr>
            <a:xfrm>
              <a:off x="3597120" y="3476520"/>
              <a:ext cx="4186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5409720" y="3476520"/>
              <a:ext cx="417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48"/>
            <p:cNvSpPr/>
            <p:nvPr/>
          </p:nvSpPr>
          <p:spPr>
            <a:xfrm>
              <a:off x="7011720" y="3476520"/>
              <a:ext cx="488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49"/>
            <p:cNvSpPr/>
            <p:nvPr/>
          </p:nvSpPr>
          <p:spPr>
            <a:xfrm>
              <a:off x="1611000" y="3301920"/>
              <a:ext cx="382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50"/>
            <p:cNvSpPr/>
            <p:nvPr/>
          </p:nvSpPr>
          <p:spPr>
            <a:xfrm>
              <a:off x="1611000" y="3649680"/>
              <a:ext cx="382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1"/>
            <p:cNvSpPr/>
            <p:nvPr/>
          </p:nvSpPr>
          <p:spPr>
            <a:xfrm>
              <a:off x="4363560" y="3060720"/>
              <a:ext cx="6948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52"/>
            <p:cNvSpPr/>
            <p:nvPr/>
          </p:nvSpPr>
          <p:spPr>
            <a:xfrm flipV="1">
              <a:off x="4433400" y="3060360"/>
              <a:ext cx="6948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3"/>
            <p:cNvSpPr/>
            <p:nvPr/>
          </p:nvSpPr>
          <p:spPr>
            <a:xfrm flipH="1">
              <a:off x="4920840" y="2641680"/>
              <a:ext cx="7128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54"/>
            <p:cNvSpPr/>
            <p:nvPr/>
          </p:nvSpPr>
          <p:spPr>
            <a:xfrm>
              <a:off x="4992480" y="2641680"/>
              <a:ext cx="67680" cy="139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55"/>
            <p:cNvSpPr/>
            <p:nvPr/>
          </p:nvSpPr>
          <p:spPr>
            <a:xfrm>
              <a:off x="5689440" y="3405240"/>
              <a:ext cx="137520" cy="71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6"/>
            <p:cNvSpPr/>
            <p:nvPr/>
          </p:nvSpPr>
          <p:spPr>
            <a:xfrm flipH="1">
              <a:off x="5689440" y="3476520"/>
              <a:ext cx="13752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57"/>
            <p:cNvSpPr/>
            <p:nvPr/>
          </p:nvSpPr>
          <p:spPr>
            <a:xfrm>
              <a:off x="3876480" y="3405240"/>
              <a:ext cx="139320" cy="71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8"/>
            <p:cNvSpPr/>
            <p:nvPr/>
          </p:nvSpPr>
          <p:spPr>
            <a:xfrm flipH="1">
              <a:off x="3876120" y="3476520"/>
              <a:ext cx="13932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9"/>
            <p:cNvSpPr/>
            <p:nvPr/>
          </p:nvSpPr>
          <p:spPr>
            <a:xfrm flipH="1">
              <a:off x="4642920" y="3754440"/>
              <a:ext cx="69480" cy="13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60"/>
            <p:cNvSpPr/>
            <p:nvPr/>
          </p:nvSpPr>
          <p:spPr>
            <a:xfrm>
              <a:off x="4713120" y="3754440"/>
              <a:ext cx="67680" cy="13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61"/>
            <p:cNvSpPr/>
            <p:nvPr/>
          </p:nvSpPr>
          <p:spPr>
            <a:xfrm flipH="1">
              <a:off x="1855080" y="3301920"/>
              <a:ext cx="13788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62"/>
            <p:cNvSpPr/>
            <p:nvPr/>
          </p:nvSpPr>
          <p:spPr>
            <a:xfrm flipH="1" flipV="1">
              <a:off x="1855080" y="3232080"/>
              <a:ext cx="13788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3"/>
            <p:cNvSpPr/>
            <p:nvPr/>
          </p:nvSpPr>
          <p:spPr>
            <a:xfrm flipH="1" flipV="1">
              <a:off x="1855080" y="3579840"/>
              <a:ext cx="13788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64"/>
            <p:cNvSpPr/>
            <p:nvPr/>
          </p:nvSpPr>
          <p:spPr>
            <a:xfrm flipH="1">
              <a:off x="1855080" y="3649680"/>
              <a:ext cx="13788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65"/>
            <p:cNvSpPr/>
            <p:nvPr/>
          </p:nvSpPr>
          <p:spPr>
            <a:xfrm>
              <a:off x="2725560" y="3060720"/>
              <a:ext cx="7092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6"/>
            <p:cNvSpPr/>
            <p:nvPr/>
          </p:nvSpPr>
          <p:spPr>
            <a:xfrm flipH="1">
              <a:off x="2796480" y="3060720"/>
              <a:ext cx="6948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67"/>
            <p:cNvSpPr/>
            <p:nvPr/>
          </p:nvSpPr>
          <p:spPr>
            <a:xfrm flipH="1">
              <a:off x="2725200" y="3754440"/>
              <a:ext cx="70920" cy="13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68"/>
            <p:cNvSpPr/>
            <p:nvPr/>
          </p:nvSpPr>
          <p:spPr>
            <a:xfrm>
              <a:off x="2796840" y="3754440"/>
              <a:ext cx="69480" cy="13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69"/>
            <p:cNvSpPr/>
            <p:nvPr/>
          </p:nvSpPr>
          <p:spPr>
            <a:xfrm>
              <a:off x="6349680" y="3060720"/>
              <a:ext cx="7092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70"/>
            <p:cNvSpPr/>
            <p:nvPr/>
          </p:nvSpPr>
          <p:spPr>
            <a:xfrm flipH="1">
              <a:off x="6420600" y="3060720"/>
              <a:ext cx="68040" cy="13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71"/>
            <p:cNvSpPr/>
            <p:nvPr/>
          </p:nvSpPr>
          <p:spPr>
            <a:xfrm>
              <a:off x="7360920" y="3405240"/>
              <a:ext cx="139320" cy="71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72"/>
            <p:cNvSpPr/>
            <p:nvPr/>
          </p:nvSpPr>
          <p:spPr>
            <a:xfrm flipH="1">
              <a:off x="7360560" y="3476520"/>
              <a:ext cx="139320" cy="69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73"/>
            <p:cNvSpPr/>
            <p:nvPr/>
          </p:nvSpPr>
          <p:spPr>
            <a:xfrm flipH="1">
              <a:off x="6349320" y="3754440"/>
              <a:ext cx="70920" cy="13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74"/>
            <p:cNvSpPr/>
            <p:nvPr/>
          </p:nvSpPr>
          <p:spPr>
            <a:xfrm>
              <a:off x="6420960" y="3754440"/>
              <a:ext cx="68040" cy="137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75"/>
            <p:cNvSpPr/>
            <p:nvPr/>
          </p:nvSpPr>
          <p:spPr>
            <a:xfrm>
              <a:off x="2575800" y="3489120"/>
              <a:ext cx="46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stag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76"/>
            <p:cNvSpPr/>
            <p:nvPr/>
          </p:nvSpPr>
          <p:spPr>
            <a:xfrm>
              <a:off x="4120920" y="2117520"/>
              <a:ext cx="1180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Compens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7"/>
            <p:cNvSpPr/>
            <p:nvPr/>
          </p:nvSpPr>
          <p:spPr>
            <a:xfrm>
              <a:off x="4101120" y="3336840"/>
              <a:ext cx="1265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High gain st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8"/>
            <p:cNvSpPr/>
            <p:nvPr/>
          </p:nvSpPr>
          <p:spPr>
            <a:xfrm>
              <a:off x="6157440" y="3260520"/>
              <a:ext cx="59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79"/>
            <p:cNvSpPr/>
            <p:nvPr/>
          </p:nvSpPr>
          <p:spPr>
            <a:xfrm>
              <a:off x="6233040" y="3489120"/>
              <a:ext cx="415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stag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80"/>
            <p:cNvSpPr/>
            <p:nvPr/>
          </p:nvSpPr>
          <p:spPr>
            <a:xfrm>
              <a:off x="4556160" y="4327560"/>
              <a:ext cx="35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Bia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" name="Object 81"/>
              <p:cNvSpPr txBox="1"/>
              <p:nvPr/>
            </p:nvSpPr>
            <p:spPr>
              <a:xfrm>
                <a:off x="3581280" y="5410080"/>
                <a:ext cx="26672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2760120" y="685800"/>
            <a:ext cx="3573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al amplifie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762120" y="144792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4503600" y="1757520"/>
            <a:ext cx="4138920" cy="306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Object 2"/>
          <p:cNvGraphicFramePr/>
          <p:nvPr/>
        </p:nvGraphicFramePr>
        <p:xfrm>
          <a:off x="503280" y="2975040"/>
          <a:ext cx="4495680" cy="243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3280" y="2975040"/>
                    <a:ext cx="449568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1371600" y="762120"/>
          <a:ext cx="6629400" cy="47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762120"/>
                    <a:ext cx="6629400" cy="47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3"/>
          <p:cNvSpPr/>
          <p:nvPr/>
        </p:nvSpPr>
        <p:spPr>
          <a:xfrm>
            <a:off x="2674080" y="5699160"/>
            <a:ext cx="37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tages of CMOS op 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585600" y="576252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OS op 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1042920" y="755640"/>
            <a:ext cx="7175160" cy="4878000"/>
            <a:chOff x="1042920" y="755640"/>
            <a:chExt cx="7175160" cy="4878000"/>
          </a:xfrm>
        </p:grpSpPr>
        <p:pic>
          <p:nvPicPr>
            <p:cNvPr id="168" name="Object 4" descr=""/>
            <p:cNvPicPr/>
            <p:nvPr/>
          </p:nvPicPr>
          <p:blipFill>
            <a:blip r:embed="rId1"/>
            <a:stretch/>
          </p:blipFill>
          <p:spPr>
            <a:xfrm>
              <a:off x="1042920" y="843120"/>
              <a:ext cx="7175160" cy="47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5"/>
            <p:cNvSpPr/>
            <p:nvPr/>
          </p:nvSpPr>
          <p:spPr>
            <a:xfrm>
              <a:off x="6236280" y="3941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6"/>
            <p:cNvSpPr/>
            <p:nvPr/>
          </p:nvSpPr>
          <p:spPr>
            <a:xfrm>
              <a:off x="4649040" y="4745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2213640" y="4763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6266520" y="15019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9"/>
            <p:cNvSpPr/>
            <p:nvPr/>
          </p:nvSpPr>
          <p:spPr>
            <a:xfrm>
              <a:off x="4698360" y="755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3651840" y="7815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1"/>
            <p:cNvSpPr/>
            <p:nvPr/>
          </p:nvSpPr>
          <p:spPr>
            <a:xfrm>
              <a:off x="5180400" y="33926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"/>
            <p:cNvSpPr/>
            <p:nvPr/>
          </p:nvSpPr>
          <p:spPr>
            <a:xfrm>
              <a:off x="3208680" y="3384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8T21:12:06Z</dcterms:created>
  <dc:creator>Ciota</dc:creator>
  <dc:description/>
  <dc:language>en-US</dc:language>
  <cp:lastModifiedBy>janicki</cp:lastModifiedBy>
  <dcterms:modified xsi:type="dcterms:W3CDTF">2017-11-09T08:20:50Z</dcterms:modified>
  <cp:revision>356</cp:revision>
  <dc:subject/>
  <dc:title>Prezentacja programu PowerPoint</dc:title>
</cp:coreProperties>
</file>